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D41-A0BE-4EC3-930C-6572B7B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87E-784D-4FD4-AF45-86F6980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C01-91EB-4CAE-A184-30801A5B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105-9CD1-4176-BE1D-C0D75F8F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497-45BD-47F6-800B-D0E06417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673-30AA-42D1-9367-75922FB9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6F5-95C5-4C3D-8D80-D040478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96A-E6CD-4C29-8A6A-BA8AEAB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630-CB75-460D-94C2-8370D7F3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097-63B7-4E11-A906-46DC556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D66-0CCC-4B04-8582-DD8DBFC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E3C-288C-431E-BCE2-6E51AAA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279-DA69-46AA-B7F3-56B42811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6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40040" y="2707200"/>
            <a:ext cx="70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ЦЕНА СТУДИЈА ПОСВЕЋЕН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ГНОСТИЧКИМ ФАКТОР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 ли је студија прогностичког фактора валидна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 ли је у студији праћена репрезентативна популација пацијената у довољно раној фази болести? – - најбоље  је почети праћење одмах по постављању дијаг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довољно дуго и потпу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-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ј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%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ацијената се 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 да студија остане валид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објективни критеријуми за исход примењени слеп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ко су идентификоване подгрупе са различитом прогноз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извршена корекција за важан прогностички факт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је урађена валидација у независној групи пацијен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прогностичка студија клинички значај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лико је чест одређени исход болести током врем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 је прогноза прециз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Прецизност се одређује на основу интервала повер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Да ли се ова валид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значајна прогностичка студија може применити код мог пацијен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из студије слични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резултати студије значајно утичу на моје закључке о томе шта да понудим или кажем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3:59:35Z</dcterms:modified>
  <cp:revision>55</cp:revision>
  <dc:subject/>
  <dc:title>Slide 1</dc:title>
</cp:coreProperties>
</file>